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6.wmf" ContentType="image/x-wmf"/>
  <Override PartName="/ppt/media/image5.png" ContentType="image/png"/>
  <Override PartName="/ppt/media/image8.jpeg" ContentType="image/jpeg"/>
  <Override PartName="/ppt/media/image4.wmf" ContentType="image/x-wmf"/>
  <Override PartName="/ppt/media/image3.wmf" ContentType="image/x-wmf"/>
  <Override PartName="/ppt/media/image2.jpeg" ContentType="image/jpeg"/>
  <Override PartName="/ppt/media/applause.wav" ContentType="audio/x-wav"/>
  <Override PartName="/ppt/media/explode.wav" ContentType="audio/x-wav"/>
  <Override PartName="/ppt/media/image10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13.png" ContentType="image/png"/>
  <Override PartName="/ppt/media/image11.wmf" ContentType="image/x-wmf"/>
  <Override PartName="/ppt/media/image12.wmf" ContentType="image/x-wmf"/>
  <Override PartName="/ppt/media/laser.wav" ContentType="audio/x-wav"/>
  <Override PartName="/ppt/media/chimes.wav" ContentType="audio/x-wav"/>
  <Override PartName="/ppt/media/image16.jpeg" ContentType="image/jpeg"/>
  <Override PartName="/ppt/media/drumroll.wav" ContentType="audio/x-wav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DDE-4007-4842-9ADF-7B1E78B0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36B-F75D-4F29-A4DF-8F8B1F98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28D-3BDD-474C-8BCA-EB11CAF5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7D7-6247-4B6A-8440-C8E261B3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D06F-C42E-418C-AEDD-FA96903B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A0F6-7525-4053-887C-D1917ED4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1BB2-515C-48F6-A18E-D9868E72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584-8F19-433C-BF23-B233F662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F95B-CC16-45A8-81FC-25725537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CD2B-8237-4A53-BB16-43C5654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2694-C986-4C84-BF87-3E7DFA8E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86D8-3929-4976-8A0C-5E3669F2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5634-B0C0-4AD7-995E-521F4025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7B79-8AB9-44B7-BEC1-7212239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8E29-3F40-4FD9-8200-239C3488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DB9-1BAE-4B33-9094-21EBFD4FC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FF60-AD2C-4D23-B37E-7933DEE9D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715D-A26A-4BD1-B0F3-7AF57FC0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21C3-469D-46D8-8447-98AA3F06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A38F-F733-450F-983F-A876A366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A86-4797-424E-91BF-A57EEBAE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738-FE96-44F3-AD86-6957EC6F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E04-5225-4C7B-B095-662FCF58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8BF-20FB-444A-A730-302E733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D4B-DFBE-4D6A-8B3E-3FB77D00AC0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 Black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02EB-01DB-4B6D-8064-9FCF838AAB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audio" Target="../media/laser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laser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5"/>
          <p:cNvSpPr txBox="1"/>
          <p:nvPr/>
        </p:nvSpPr>
        <p:spPr>
          <a:xfrm>
            <a:off x="539640" y="2276640"/>
            <a:ext cx="7686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стране натуральных чисе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5" descr="ANTN027"/>
          <p:cNvPicPr/>
          <p:nvPr/>
        </p:nvPicPr>
        <p:blipFill>
          <a:blip r:embed="rId1"/>
          <a:stretch/>
        </p:blipFill>
        <p:spPr>
          <a:xfrm>
            <a:off x="2987640" y="3573360"/>
            <a:ext cx="3313080" cy="27748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6"/>
          <p:cNvSpPr/>
          <p:nvPr/>
        </p:nvSpPr>
        <p:spPr>
          <a:xfrm>
            <a:off x="1187280" y="260280"/>
            <a:ext cx="52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971640" y="260280"/>
            <a:ext cx="66247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ВТОР проекта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ЧЕНИК 6  «В» КЛАССА МОУ  «СОШ № 57» г. Астрахани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РИМИА ДЕНИ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BIZ117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6335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324000" y="476280"/>
            <a:ext cx="295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Black"/>
              </a:rPr>
              <a:t>СТОП ВЕСЕЛЬЕ!!!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Black"/>
              </a:rPr>
              <a:t>ЭКСТРЕННОЕ СООБЩЕНИЕ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Black"/>
              </a:rPr>
              <a:t>ИЗ ГОРОДСКОЙ КАЗНЫ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 Black"/>
              </a:rPr>
              <a:t>БЫЛИ УКРАДЕНЫ  ШИФРЫ  И  ЦИФРЫ!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78" name="Picture 7" descr="CBIZ158"/>
          <p:cNvPicPr/>
          <p:nvPr/>
        </p:nvPicPr>
        <p:blipFill>
          <a:blip r:embed="rId2"/>
          <a:stretch/>
        </p:blipFill>
        <p:spPr>
          <a:xfrm>
            <a:off x="5148360" y="0"/>
            <a:ext cx="3708360" cy="63817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8"/>
          <p:cNvSpPr/>
          <p:nvPr/>
        </p:nvSpPr>
        <p:spPr>
          <a:xfrm>
            <a:off x="5292720" y="404640"/>
            <a:ext cx="3382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ТО ИХ НАЙДЕТ –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ТОТ АСТРАХАНЬ ОТ КРИЗИСА СПАСЁТ!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НО ПОМОЧЬ НАМ МОЖЕТ  ТОТ,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ТО В МАТЕМАТИКЕ  ХОРОШО «ВОЛОКЁТ»!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3" name="laser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1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22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22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22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00"/>
                </a:solidFill>
                <a:latin typeface="Tahoma"/>
              </a:rPr>
              <a:t>Перед тем, как путь искать</a:t>
            </a:r>
            <a:br>
              <a:rPr sz="4000"/>
            </a:br>
            <a:r>
              <a:rPr b="1" lang="ru-RU" sz="4000" spc="-1" strike="noStrike">
                <a:solidFill>
                  <a:srgbClr val="99cc00"/>
                </a:solidFill>
                <a:latin typeface="Tahoma"/>
              </a:rPr>
              <a:t>Наш девиз  хотим сказать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2060640"/>
            <a:ext cx="7543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Живем всегда с друзьями в мире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юбим решать примеры с ни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А знаки </a:t>
            </a: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«минус»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«плюс»,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Tahoma"/>
              </a:rPr>
              <a:t>«умножит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сегда помочь готовы то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4" descr="ANTN069"/>
          <p:cNvPicPr/>
          <p:nvPr/>
        </p:nvPicPr>
        <p:blipFill>
          <a:blip r:embed="rId1"/>
          <a:stretch/>
        </p:blipFill>
        <p:spPr>
          <a:xfrm>
            <a:off x="0" y="4505400"/>
            <a:ext cx="2514600" cy="23526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500"/>
                            </p:stCondLst>
                            <p:childTnLst>
                              <p:par>
                                <p:cTn id="620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8500"/>
                            </p:stCondLst>
                            <p:childTnLst>
                              <p:par>
                                <p:cTn id="624" nodeType="after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6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В  погоню за преступниками</a:t>
            </a:r>
            <a:br>
              <a:rPr sz="3600"/>
            </a:b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 вот, друзья, сейчас настал тот час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зовут на помощь вас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т план как надо вам идти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улицы прой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бы преступников догнат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меры надо вам решать!!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4" dur="19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5" dur="19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9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135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19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19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19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6320"/>
                            </p:stCondLst>
                            <p:childTnLst>
                              <p:par>
                                <p:cTn id="6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19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19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9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5"/>
                            </p:stCondLst>
                            <p:childTnLst>
                              <p:par>
                                <p:cTn id="6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19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19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19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215"/>
                            </p:stCondLst>
                            <p:childTnLst>
                              <p:par>
                                <p:cTn id="6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19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19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9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2685"/>
                            </p:stCondLst>
                            <p:childTnLst>
                              <p:par>
                                <p:cTn id="6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5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19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19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9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.Сложения: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(154+259)+58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.Умножения: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25</a:t>
            </a:r>
            <a:r>
              <a:rPr b="0" lang="en-US" sz="2400" spc="-1" strike="noStrike">
                <a:solidFill>
                  <a:srgbClr val="e620e6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e620e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(100</a:t>
            </a:r>
            <a:r>
              <a:rPr b="0" lang="en-US" sz="3200" spc="-1" strike="noStrike">
                <a:solidFill>
                  <a:srgbClr val="e620e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e620e6"/>
                </a:solidFill>
                <a:latin typeface="Tahoma"/>
              </a:rPr>
              <a:t>•</a:t>
            </a:r>
            <a:r>
              <a:rPr b="0" lang="ru-RU" sz="2400" spc="-1" strike="noStrike">
                <a:solidFill>
                  <a:srgbClr val="e620e6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4)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.Вычитания: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212–(91+112)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л.Деления: </a:t>
            </a:r>
            <a:r>
              <a:rPr b="0" lang="ru-RU" sz="3200" spc="-1" strike="noStrike">
                <a:solidFill>
                  <a:srgbClr val="e620e6"/>
                </a:solidFill>
                <a:latin typeface="Tahoma"/>
              </a:rPr>
              <a:t>(84+12):4=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156360" y="549360"/>
            <a:ext cx="1655640" cy="50472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471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5651640" y="1700280"/>
            <a:ext cx="2016000" cy="576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1000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5940360" y="2924280"/>
            <a:ext cx="1582920" cy="576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 Black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4859280" y="4076640"/>
            <a:ext cx="1511280" cy="64764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 Black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500"/>
                            </p:stCondLst>
                            <p:childTnLst>
                              <p:par>
                                <p:cTn id="686" nodeType="afterEffect" fill="hold" presetClass="entr" presetID="7" presetSubtype="2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6500"/>
                            </p:stCondLst>
                            <p:childTnLst>
                              <p:par>
                                <p:cTn id="691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6500"/>
                            </p:stCondLst>
                            <p:childTnLst>
                              <p:par>
                                <p:cTn id="696" nodeType="afterEffect" fill="hold" presetClass="entr" presetID="7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6500"/>
                            </p:stCondLst>
                            <p:childTnLst>
                              <p:par>
                                <p:cTn id="701" nodeType="afterEffect" fill="hold" presetClass="entr" presetID="42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9" descr="CBIZ117"/>
          <p:cNvPicPr/>
          <p:nvPr/>
        </p:nvPicPr>
        <p:blipFill>
          <a:blip r:embed="rId1"/>
          <a:stretch/>
        </p:blipFill>
        <p:spPr>
          <a:xfrm>
            <a:off x="179280" y="189000"/>
            <a:ext cx="4897440" cy="633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" descr="CBIZ158"/>
          <p:cNvPicPr/>
          <p:nvPr/>
        </p:nvPicPr>
        <p:blipFill>
          <a:blip r:embed="rId2"/>
          <a:stretch/>
        </p:blipFill>
        <p:spPr>
          <a:xfrm>
            <a:off x="5148360" y="0"/>
            <a:ext cx="3708360" cy="63817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1"/>
          <p:cNvSpPr/>
          <p:nvPr/>
        </p:nvSpPr>
        <p:spPr>
          <a:xfrm>
            <a:off x="324000" y="476280"/>
            <a:ext cx="27352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ОПОЗДАЛИ!!!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НЕ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ДОГНАЛИ!!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5364000" y="83664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В БОЛОТЕ СЛЕД ПОТЕРЯЛИ</a:t>
            </a:r>
            <a:r>
              <a:rPr b="1" lang="ru-RU" sz="2400" spc="-1" strike="noStrike">
                <a:solidFill>
                  <a:srgbClr val="99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!!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3" name="laser.wav"/>
      </p:stSnd>
    </p:sndAc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733" dur="1000" fill="hold"/>
                                        <p:tgtEl>
                                          <p:spTgt spid="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000"/>
                            </p:stCondLst>
                            <p:childTnLst>
                              <p:par>
                                <p:cTn id="7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0"/>
                            </p:stCondLst>
                            <p:childTnLst>
                              <p:par>
                                <p:cTn id="741" nodeType="afterEffect" fill="hold" presetClass="entr" presetID="5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4" descr="Картинка 34 из 1889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2349360"/>
            <a:ext cx="572436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Сразу за городом болото Ошибок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Кто математику не знает,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Тот в болоте пропадает.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Через болото можно пройти,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Если надежные бревна найт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еверные примеры надо вычеркнуть – это ловушки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6" name="AutoShape 25"/>
          <p:cNvSpPr/>
          <p:nvPr/>
        </p:nvSpPr>
        <p:spPr>
          <a:xfrm>
            <a:off x="6804000" y="371628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3"/>
          <a:stretch/>
        </p:blipFill>
        <p:spPr>
          <a:xfrm>
            <a:off x="4716360" y="2205000"/>
            <a:ext cx="2592360" cy="606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"/>
          <p:cNvPicPr/>
          <p:nvPr/>
        </p:nvPicPr>
        <p:blipFill>
          <a:blip r:embed="rId4"/>
          <a:stretch/>
        </p:blipFill>
        <p:spPr>
          <a:xfrm>
            <a:off x="5435640" y="3213000"/>
            <a:ext cx="2808360" cy="674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5"/>
          <a:stretch/>
        </p:blipFill>
        <p:spPr>
          <a:xfrm>
            <a:off x="6300720" y="5013360"/>
            <a:ext cx="2843280" cy="7761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5407920" y="234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2020:20=1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AutoShape 27"/>
          <p:cNvSpPr/>
          <p:nvPr/>
        </p:nvSpPr>
        <p:spPr>
          <a:xfrm>
            <a:off x="6227640" y="256536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AutoShape 26"/>
          <p:cNvSpPr/>
          <p:nvPr/>
        </p:nvSpPr>
        <p:spPr>
          <a:xfrm>
            <a:off x="5508720" y="256536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03" name="Group 20"/>
          <p:cNvGrpSpPr/>
          <p:nvPr/>
        </p:nvGrpSpPr>
        <p:grpSpPr>
          <a:xfrm>
            <a:off x="5076720" y="2709720"/>
            <a:ext cx="2664000" cy="628920"/>
            <a:chOff x="5076720" y="2709720"/>
            <a:chExt cx="2664000" cy="628920"/>
          </a:xfrm>
        </p:grpSpPr>
        <p:pic>
          <p:nvPicPr>
            <p:cNvPr id="204" name="Picture 8" descr=""/>
            <p:cNvPicPr/>
            <p:nvPr/>
          </p:nvPicPr>
          <p:blipFill>
            <a:blip r:embed="rId6"/>
            <a:stretch/>
          </p:blipFill>
          <p:spPr>
            <a:xfrm>
              <a:off x="5076720" y="2709720"/>
              <a:ext cx="266400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4"/>
            <p:cNvSpPr/>
            <p:nvPr/>
          </p:nvSpPr>
          <p:spPr>
            <a:xfrm>
              <a:off x="5718600" y="2854440"/>
              <a:ext cx="16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(13 + 9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·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 0=22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06" name="Text Box 15"/>
          <p:cNvSpPr/>
          <p:nvPr/>
        </p:nvSpPr>
        <p:spPr>
          <a:xfrm>
            <a:off x="5855760" y="3429000"/>
            <a:ext cx="23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(17−9)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·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(25−16)=72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6227640" y="378936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08" name="Group 21"/>
          <p:cNvGrpSpPr/>
          <p:nvPr/>
        </p:nvGrpSpPr>
        <p:grpSpPr>
          <a:xfrm>
            <a:off x="5651640" y="3862440"/>
            <a:ext cx="2879640" cy="628560"/>
            <a:chOff x="5651640" y="3862440"/>
            <a:chExt cx="2879640" cy="628560"/>
          </a:xfrm>
        </p:grpSpPr>
        <p:pic>
          <p:nvPicPr>
            <p:cNvPr id="209" name="Picture 12" descr=""/>
            <p:cNvPicPr/>
            <p:nvPr/>
          </p:nvPicPr>
          <p:blipFill>
            <a:blip r:embed="rId7"/>
            <a:stretch/>
          </p:blipFill>
          <p:spPr>
            <a:xfrm>
              <a:off x="5651640" y="3862440"/>
              <a:ext cx="287964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/>
            <p:cNvSpPr/>
            <p:nvPr/>
          </p:nvSpPr>
          <p:spPr>
            <a:xfrm>
              <a:off x="6234840" y="4005360"/>
              <a:ext cx="186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25 + 1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·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 10=350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11" name="AutoShape 24"/>
          <p:cNvSpPr/>
          <p:nvPr/>
        </p:nvSpPr>
        <p:spPr>
          <a:xfrm>
            <a:off x="6877080" y="436572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212" name="Group 22"/>
          <p:cNvGrpSpPr/>
          <p:nvPr/>
        </p:nvGrpSpPr>
        <p:grpSpPr>
          <a:xfrm>
            <a:off x="5940360" y="4437000"/>
            <a:ext cx="2808360" cy="717480"/>
            <a:chOff x="5940360" y="4437000"/>
            <a:chExt cx="2808360" cy="717480"/>
          </a:xfrm>
        </p:grpSpPr>
        <p:pic>
          <p:nvPicPr>
            <p:cNvPr id="213" name="Picture 9" descr=""/>
            <p:cNvPicPr/>
            <p:nvPr/>
          </p:nvPicPr>
          <p:blipFill>
            <a:blip r:embed="rId8"/>
            <a:stretch/>
          </p:blipFill>
          <p:spPr>
            <a:xfrm>
              <a:off x="5940360" y="4437000"/>
              <a:ext cx="28083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17"/>
            <p:cNvSpPr/>
            <p:nvPr/>
          </p:nvSpPr>
          <p:spPr>
            <a:xfrm>
              <a:off x="6619680" y="4654440"/>
              <a:ext cx="119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6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 Black"/>
                </a:rPr>
                <a:t>·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 Black"/>
                </a:rPr>
                <a:t>  8 : 1=0</a:t>
              </a: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215" name="Text Box 18"/>
          <p:cNvSpPr/>
          <p:nvPr/>
        </p:nvSpPr>
        <p:spPr>
          <a:xfrm>
            <a:off x="6936120" y="522936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35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·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101=3535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4859280" y="4365720"/>
            <a:ext cx="914400" cy="914400"/>
          </a:xfrm>
          <a:prstGeom prst="irregularSeal1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7" name="Picture 103" descr="slide0006_image018"/>
          <p:cNvPicPr/>
          <p:nvPr/>
        </p:nvPicPr>
        <p:blipFill>
          <a:blip r:embed="rId9"/>
          <a:srcRect l="1879" t="2364" r="1879" b="2364"/>
          <a:stretch/>
        </p:blipFill>
        <p:spPr>
          <a:xfrm>
            <a:off x="1862280" y="865080"/>
            <a:ext cx="1385640" cy="1122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04"/>
          <p:cNvSpPr/>
          <p:nvPr/>
        </p:nvSpPr>
        <p:spPr>
          <a:xfrm>
            <a:off x="5651640" y="0"/>
            <a:ext cx="302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 Black"/>
              </a:rPr>
              <a:t>ВРАГИ ПОВЕРЖЕНЫ, СУНДУК С ЦИФРАМИ У НАС!!!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10" name="laser.wav"/>
      </p:stSnd>
    </p:sndAc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0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500"/>
                            </p:stCondLst>
                            <p:childTnLst>
                              <p:par>
                                <p:cTn id="7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5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500"/>
                            </p:stCondLst>
                            <p:childTnLst>
                              <p:par>
                                <p:cTn id="773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7" nodeType="after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0"/>
                            </p:stCondLst>
                            <p:childTnLst>
                              <p:par>
                                <p:cTn id="781" nodeType="afterEffect" fill="hold" presetClass="exit" presetID="10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8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8000"/>
                            </p:stCondLst>
                            <p:childTnLst>
                              <p:par>
                                <p:cTn id="7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9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31000"/>
                            </p:stCondLst>
                            <p:childTnLst>
                              <p:par>
                                <p:cTn id="8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6"/>
          <p:cNvSpPr/>
          <p:nvPr/>
        </p:nvSpPr>
        <p:spPr>
          <a:xfrm>
            <a:off x="1214280" y="765000"/>
            <a:ext cx="664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ОТ МЫ ПОЧТИ УЖЕ У ЦЕЛ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О  ЧТОБЫ ЦИФРЫ РАЗДОБЫТЬ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М НАДО КОДОВЫЙ ЗАМОК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 СУНДУКЕ ОТКРЫТЬ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0" name="Picture 14" descr="slide0006_image018"/>
          <p:cNvPicPr/>
          <p:nvPr/>
        </p:nvPicPr>
        <p:blipFill>
          <a:blip r:embed="rId1"/>
          <a:srcRect l="1879" t="2364" r="1879" b="2364"/>
          <a:stretch/>
        </p:blipFill>
        <p:spPr>
          <a:xfrm>
            <a:off x="3348000" y="2637000"/>
            <a:ext cx="2376360" cy="17269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800"/>
                            </p:stCondLst>
                            <p:childTnLst>
                              <p:par>
                                <p:cTn id="82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800"/>
                            </p:stCondLst>
                            <p:childTnLst>
                              <p:par>
                                <p:cTn id="83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9600"/>
                            </p:stCondLst>
                            <p:childTnLst>
                              <p:par>
                                <p:cTn id="8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5869080"/>
            <a:ext cx="7543800" cy="22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2700360" y="620640"/>
            <a:ext cx="100800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5003640" y="5157720"/>
            <a:ext cx="100836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5003640" y="549360"/>
            <a:ext cx="100836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1619280" y="2060640"/>
            <a:ext cx="100800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6300720" y="1916280"/>
            <a:ext cx="100800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763640" y="3789360"/>
            <a:ext cx="100800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084720" y="3789360"/>
            <a:ext cx="100836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843280" y="5157720"/>
            <a:ext cx="1008000" cy="1008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3780000" y="981000"/>
            <a:ext cx="11523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Line 13"/>
          <p:cNvSpPr/>
          <p:nvPr/>
        </p:nvSpPr>
        <p:spPr>
          <a:xfrm>
            <a:off x="5940360" y="1341360"/>
            <a:ext cx="57636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" name="Line 14"/>
          <p:cNvSpPr/>
          <p:nvPr/>
        </p:nvSpPr>
        <p:spPr>
          <a:xfrm flipV="1">
            <a:off x="2411280" y="1484280"/>
            <a:ext cx="432000" cy="504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Line 15"/>
          <p:cNvSpPr/>
          <p:nvPr/>
        </p:nvSpPr>
        <p:spPr>
          <a:xfrm flipH="1" flipV="1">
            <a:off x="2555640" y="4723920"/>
            <a:ext cx="431640" cy="576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Line 16"/>
          <p:cNvSpPr/>
          <p:nvPr/>
        </p:nvSpPr>
        <p:spPr>
          <a:xfrm flipV="1">
            <a:off x="2124000" y="3141360"/>
            <a:ext cx="0" cy="6476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Line 17"/>
          <p:cNvSpPr/>
          <p:nvPr/>
        </p:nvSpPr>
        <p:spPr>
          <a:xfrm>
            <a:off x="6732720" y="2924280"/>
            <a:ext cx="0" cy="792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7" name="Line 18"/>
          <p:cNvSpPr/>
          <p:nvPr/>
        </p:nvSpPr>
        <p:spPr>
          <a:xfrm flipH="1">
            <a:off x="5795640" y="4724280"/>
            <a:ext cx="431640" cy="50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Line 19"/>
          <p:cNvSpPr/>
          <p:nvPr/>
        </p:nvSpPr>
        <p:spPr>
          <a:xfrm flipH="1">
            <a:off x="3924360" y="5805360"/>
            <a:ext cx="1008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WordArt 20"/>
          <p:cNvSpPr txBox="1"/>
          <p:nvPr/>
        </p:nvSpPr>
        <p:spPr>
          <a:xfrm>
            <a:off x="2916360" y="1916280"/>
            <a:ext cx="3095640" cy="26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сстановит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почк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вращени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Text Box 21"/>
          <p:cNvSpPr/>
          <p:nvPr/>
        </p:nvSpPr>
        <p:spPr>
          <a:xfrm>
            <a:off x="3995640" y="404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6300720" y="126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1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7093080" y="3213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 1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6300720" y="5300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5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4140360" y="537372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20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1835280" y="50846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+ 26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1332000" y="328464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3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1835280" y="141300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 1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0" y="6156360"/>
            <a:ext cx="45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Когда ответы вы найдете,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 Black"/>
              </a:rPr>
              <a:t>то без труда все отопрете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4000"/>
                            </p:stCondLst>
                            <p:childTnLst>
                              <p:par>
                                <p:cTn id="860" nodeType="afterEffect" fill="hold" presetClass="exit" presetID="8" presetSubtype="16">
                                  <p:stCondLst>
                                    <p:cond delay="4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75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8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8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8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4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5100"/>
                            </p:stCondLst>
                            <p:childTnLst>
                              <p:par>
                                <p:cTn id="89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17600"/>
                            </p:stCondLst>
                            <p:childTnLst>
                              <p:par>
                                <p:cTn id="89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9600"/>
                            </p:stCondLst>
                            <p:childTnLst>
                              <p:par>
                                <p:cTn id="905" nodeType="afterEffect" fill="hold" presetClass="entr" presetID="2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0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600"/>
                            </p:stCondLst>
                            <p:childTnLst>
                              <p:par>
                                <p:cTn id="909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22600"/>
                            </p:stCondLst>
                            <p:childTnLst>
                              <p:par>
                                <p:cTn id="917" nodeType="afterEffect" fill="hold" presetClass="emph" presetID="23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1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1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20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21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8264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ahoma"/>
              </a:rPr>
              <a:t>ВЕРНУЛИСЬ ЦИФРЫ В ГОРОД СВОЙ –</a:t>
            </a:r>
            <a:br>
              <a:rPr sz="3200"/>
            </a:br>
            <a:r>
              <a:rPr b="0" i="1" lang="ru-RU" sz="3200" spc="-1" strike="noStrike">
                <a:solidFill>
                  <a:srgbClr val="eaeaea"/>
                </a:solidFill>
                <a:latin typeface="Tahoma"/>
              </a:rPr>
              <a:t>В МИГ НАСТУПИЛ ПОРЯДОК И ПОКОЙ!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692360" y="213372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179280" y="342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Verdana"/>
              </a:rPr>
              <a:t>222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971640" y="5084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35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3924360" y="4653000"/>
            <a:ext cx="1295280" cy="91440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Verdana"/>
              </a:rPr>
              <a:t>4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AutoShape 8"/>
          <p:cNvSpPr/>
          <p:nvPr/>
        </p:nvSpPr>
        <p:spPr>
          <a:xfrm>
            <a:off x="5219640" y="5300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27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6588000" y="1341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7308720" y="270828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784a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AutoShape 11"/>
          <p:cNvSpPr/>
          <p:nvPr/>
        </p:nvSpPr>
        <p:spPr>
          <a:xfrm>
            <a:off x="5867280" y="393372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35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AutoShape 12"/>
          <p:cNvSpPr/>
          <p:nvPr/>
        </p:nvSpPr>
        <p:spPr>
          <a:xfrm>
            <a:off x="7164360" y="5229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2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AutoShape 13"/>
          <p:cNvSpPr/>
          <p:nvPr/>
        </p:nvSpPr>
        <p:spPr>
          <a:xfrm>
            <a:off x="3348000" y="3213000"/>
            <a:ext cx="2016000" cy="1059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241560 h 1059120"/>
              <a:gd name="textAreaBottom" fmla="*/ 81756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4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AutoShape 18"/>
          <p:cNvSpPr/>
          <p:nvPr/>
        </p:nvSpPr>
        <p:spPr>
          <a:xfrm>
            <a:off x="0" y="4292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55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1" name="AutoShape 19"/>
          <p:cNvSpPr/>
          <p:nvPr/>
        </p:nvSpPr>
        <p:spPr>
          <a:xfrm>
            <a:off x="-181080" y="2421000"/>
            <a:ext cx="2016360" cy="105876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241560 h 1058760"/>
              <a:gd name="textAreaBottom" fmla="*/ 81720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AutoShape 20"/>
          <p:cNvSpPr/>
          <p:nvPr/>
        </p:nvSpPr>
        <p:spPr>
          <a:xfrm flipH="1">
            <a:off x="7594560" y="4076640"/>
            <a:ext cx="1225440" cy="987480"/>
          </a:xfrm>
          <a:custGeom>
            <a:avLst/>
            <a:gdLst>
              <a:gd name="textAreaLeft" fmla="*/ 279720 w 1225440"/>
              <a:gd name="textAreaRight" fmla="*/ 945720 w 1225440"/>
              <a:gd name="textAreaTop" fmla="*/ 225360 h 987480"/>
              <a:gd name="textAreaBottom" fmla="*/ 762120 h 987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AutoShape 21"/>
          <p:cNvSpPr/>
          <p:nvPr/>
        </p:nvSpPr>
        <p:spPr>
          <a:xfrm>
            <a:off x="5940360" y="2852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56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AutoShape 22"/>
          <p:cNvSpPr/>
          <p:nvPr/>
        </p:nvSpPr>
        <p:spPr>
          <a:xfrm>
            <a:off x="2484360" y="5661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54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5" name="AutoShape 23"/>
          <p:cNvSpPr/>
          <p:nvPr/>
        </p:nvSpPr>
        <p:spPr>
          <a:xfrm>
            <a:off x="7632720" y="191628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41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66" name="Picture 24" descr="slide0006_image018"/>
          <p:cNvPicPr/>
          <p:nvPr/>
        </p:nvPicPr>
        <p:blipFill>
          <a:blip r:embed="rId1"/>
          <a:srcRect l="1879" t="2364" r="1879" b="2364"/>
          <a:stretch/>
        </p:blipFill>
        <p:spPr>
          <a:xfrm>
            <a:off x="3348000" y="1341360"/>
            <a:ext cx="2376360" cy="1727280"/>
          </a:xfrm>
          <a:prstGeom prst="rect">
            <a:avLst/>
          </a:prstGeom>
          <a:ln w="0">
            <a:noFill/>
          </a:ln>
        </p:spPr>
      </p:pic>
      <p:sp>
        <p:nvSpPr>
          <p:cNvPr id="267" name="AutoShape 25"/>
          <p:cNvSpPr/>
          <p:nvPr/>
        </p:nvSpPr>
        <p:spPr>
          <a:xfrm>
            <a:off x="2124000" y="4292640"/>
            <a:ext cx="2016360" cy="1058760"/>
          </a:xfrm>
          <a:custGeom>
            <a:avLst/>
            <a:gdLst>
              <a:gd name="textAreaLeft" fmla="*/ 460080 w 2016360"/>
              <a:gd name="textAreaRight" fmla="*/ 1556280 w 2016360"/>
              <a:gd name="textAreaTop" fmla="*/ 241560 h 1058760"/>
              <a:gd name="textAreaBottom" fmla="*/ 817200 h 1058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5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AutoShape 26"/>
          <p:cNvSpPr/>
          <p:nvPr/>
        </p:nvSpPr>
        <p:spPr>
          <a:xfrm>
            <a:off x="1763640" y="3357720"/>
            <a:ext cx="1295640" cy="91440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Verdana"/>
              </a:rPr>
              <a:t>42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4211640" y="59436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Verdana"/>
              </a:rPr>
              <a:t>96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WordArt 28"/>
          <p:cNvSpPr txBox="1"/>
          <p:nvPr/>
        </p:nvSpPr>
        <p:spPr>
          <a:xfrm>
            <a:off x="468360" y="3068640"/>
            <a:ext cx="8280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НАТУРАЛЬНЫЕ ЧИСЛА</a:t>
            </a:r>
            <a:endParaRPr b="1" i="1" lang="en-US" sz="2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050"/>
                            </p:stCondLst>
                            <p:childTnLst>
                              <p:par>
                                <p:cTn id="9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6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4050"/>
                            </p:stCondLst>
                            <p:childTnLst>
                              <p:par>
                                <p:cTn id="9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4550"/>
                            </p:stCondLst>
                            <p:childTnLst>
                              <p:par>
                                <p:cTn id="9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50"/>
                            </p:stCondLst>
                            <p:childTnLst>
                              <p:par>
                                <p:cTn id="9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5550"/>
                            </p:stCondLst>
                            <p:childTnLst>
                              <p:par>
                                <p:cTn id="9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605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6550"/>
                            </p:stCondLst>
                            <p:childTnLst>
                              <p:par>
                                <p:cTn id="9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7050"/>
                            </p:stCondLst>
                            <p:childTnLst>
                              <p:par>
                                <p:cTn id="9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755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8050"/>
                            </p:stCondLst>
                            <p:childTnLst>
                              <p:par>
                                <p:cTn id="9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8550"/>
                            </p:stCondLst>
                            <p:childTnLst>
                              <p:par>
                                <p:cTn id="9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9050"/>
                            </p:stCondLst>
                            <p:childTnLst>
                              <p:par>
                                <p:cTn id="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9550"/>
                            </p:stCondLst>
                            <p:childTnLst>
                              <p:par>
                                <p:cTn id="10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0050"/>
                            </p:stCondLst>
                            <p:childTnLst>
                              <p:par>
                                <p:cTn id="10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1055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105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155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2050"/>
                            </p:stCondLst>
                            <p:childTnLst>
                              <p:par>
                                <p:cTn id="1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2550"/>
                            </p:stCondLst>
                            <p:childTnLst>
                              <p:par>
                                <p:cTn id="10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3050"/>
                            </p:stCondLst>
                            <p:childTnLst>
                              <p:par>
                                <p:cTn id="10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13550"/>
                            </p:stCondLst>
                            <p:childTnLst>
                              <p:par>
                                <p:cTn id="1052" nodeType="afterEffect" fill="hold" presetClass="entr" presetID="4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ИТЕРАТУР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85840" y="1071360"/>
            <a:ext cx="8324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251be7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Натуральные числа. Методическая разработка учителя математики МОУ «Анастасовская СОШ» Лунькова  Е.А., 25.01.08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туральные числа, урок-сказка, 5 класс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http://www.zaitseva-irina.ru/html/f1103452759.html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рок «Поле чудес: Натуральные числа»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http://www.uztest.ru/abstracts/?idabstract=6800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Натуральные числа. Каратанова М. Н. МОУ СОШ №25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. Фокино 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http://karmanform.ucoz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5. Сложение натуральных чисел и его свойства. Каратанова М.Н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У СОШ №256, г.Фокино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http://karmanform.ucoz.ru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6. Обобщающий урок по теме «Действия с натуральными числами», 5 класс, математика. </a:t>
            </a:r>
            <a:r>
              <a:rPr b="0" lang="ru-RU" sz="1400" spc="-1" strike="noStrike" u="sng">
                <a:solidFill>
                  <a:srgbClr val="ffffff"/>
                </a:solidFill>
                <a:uFillTx/>
                <a:latin typeface="Tahoma"/>
              </a:rPr>
              <a:t>http://www.openclass.ru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Кузьменко Т.М., МОУ СОШ №10 г.Апатиты, Мурманской област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7. Единая Коллекция цифровых образовательных ресурсов для учреждений                                  общего и начального профессионального образования.  http://imc.rkc-74.ru                                    Горбунова Е. Р.  Натуральные числ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8. Математика", Зубарева И.И., Мордкович А.Г.: Учебник для 5 класса                                         общеобразовательных учреждений. - М.: Мнемозина, 2007 г.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fill="hold">
                      <p:stCondLst>
                        <p:cond delay="0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3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7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1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9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3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5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9" dur="500"/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3" dur="500"/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1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16" dur="1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17" dur="1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25" dur="1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26" dur="1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2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3" dur="1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34" dur="1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35" dur="1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2" dur="1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43" dur="1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44" dur="1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1" dur="1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52" dur="1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53" dur="1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5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0" dur="1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61" dur="1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62" dur="1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70" dur="1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71" dur="1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8" dur="1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79" dur="1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80" dur="100" fill="hold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7" dur="1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88" dur="1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89" dur="100" fill="hold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5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6" dur="1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197" dur="1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198" dur="100" fill="hold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5" dur="100" fill="hold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206" dur="100" fill="hold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207" dur="100" fill="hold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0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4" dur="100" fill="hold"/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215" dur="100" fill="hold"/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216" dur="100" fill="hold"/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3" dur="100" fill="hold"/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1224" dur="100" fill="hold"/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1225" dur="100" fill="hold"/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еожиданно сегодня получили мы ПИСЬМО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216320" y="1981080"/>
            <a:ext cx="4927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Пишут вам печаль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Числа натуральны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ы знаете о на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Живем мы в нашем город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Дружною семь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Загадочные, хитр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ываем мы пор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ываем очень шустрые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Веселые и грустные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маленьким самы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И самым большим -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Каждым своим мы числом дорожи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13" descr="postman_250"/>
          <p:cNvPicPr/>
          <p:nvPr/>
        </p:nvPicPr>
        <p:blipFill>
          <a:blip r:embed="rId1"/>
          <a:stretch/>
        </p:blipFill>
        <p:spPr>
          <a:xfrm>
            <a:off x="250920" y="2349360"/>
            <a:ext cx="2857320" cy="22860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1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2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7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7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7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7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7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7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17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27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7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7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67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77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6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67872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Tahoma"/>
              </a:rPr>
              <a:t>Какие  цифры  вы  знаете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7" name="Picture 3" descr="CRTN054"/>
          <p:cNvPicPr/>
          <p:nvPr/>
        </p:nvPicPr>
        <p:blipFill>
          <a:blip r:embed="rId1"/>
          <a:stretch/>
        </p:blipFill>
        <p:spPr>
          <a:xfrm>
            <a:off x="2700360" y="907920"/>
            <a:ext cx="3529080" cy="3186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4"/>
          <p:cNvSpPr/>
          <p:nvPr/>
        </p:nvSpPr>
        <p:spPr>
          <a:xfrm>
            <a:off x="755640" y="198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Verdan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79280" y="3429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971640" y="508464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2916360" y="465300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66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AutoShape 8"/>
          <p:cNvSpPr/>
          <p:nvPr/>
        </p:nvSpPr>
        <p:spPr>
          <a:xfrm>
            <a:off x="4716360" y="5013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4f8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Verdana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6588000" y="134136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Verdan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7308720" y="270828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c784a"/>
                </a:solidFill>
                <a:latin typeface="Verdana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5867280" y="3933720"/>
            <a:ext cx="1511280" cy="91440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Verdana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7164360" y="4929120"/>
            <a:ext cx="1511280" cy="1000080"/>
          </a:xfrm>
          <a:custGeom>
            <a:avLst/>
            <a:gdLst>
              <a:gd name="textAreaLeft" fmla="*/ 344880 w 1511280"/>
              <a:gd name="textAreaRight" fmla="*/ 1166400 w 1511280"/>
              <a:gd name="textAreaTop" fmla="*/ 228240 h 1000080"/>
              <a:gd name="textAreaBottom" fmla="*/ 7718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Verdana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348000" y="3213000"/>
            <a:ext cx="2016000" cy="1059120"/>
          </a:xfrm>
          <a:custGeom>
            <a:avLst/>
            <a:gdLst>
              <a:gd name="textAreaLeft" fmla="*/ 460080 w 2016000"/>
              <a:gd name="textAreaRight" fmla="*/ 1555920 w 2016000"/>
              <a:gd name="textAreaTop" fmla="*/ 241560 h 1059120"/>
              <a:gd name="textAreaBottom" fmla="*/ 817560 h 1059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3078000" y="3094200"/>
            <a:ext cx="2500560" cy="1385640"/>
          </a:xfrm>
          <a:prstGeom prst="pie">
            <a:avLst/>
          </a:pr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Freeform 15"/>
          <p:cNvSpPr/>
          <p:nvPr/>
        </p:nvSpPr>
        <p:spPr>
          <a:xfrm>
            <a:off x="3184560" y="3094200"/>
            <a:ext cx="2484360" cy="1355400"/>
          </a:xfrm>
          <a:prstGeom prst="pie">
            <a:avLst/>
          </a:prstGeom>
          <a:noFill/>
          <a:ln w="177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24000" y="592920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Verdana"/>
              </a:rPr>
              <a:t>Все ли рассмотренные числа  относятся к натуральным?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WordArt 17"/>
          <p:cNvSpPr txBox="1"/>
          <p:nvPr/>
        </p:nvSpPr>
        <p:spPr>
          <a:xfrm>
            <a:off x="468360" y="3068640"/>
            <a:ext cx="828036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Однозначные числа.</a:t>
            </a:r>
            <a:endParaRPr b="1" i="1" lang="en-US" sz="2800" spc="1" strike="noStrike">
              <a:ln w="9360">
                <a:solidFill>
                  <a:srgbClr val="00ffff"/>
                </a:solidFill>
                <a:miter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4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90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40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900"/>
                            </p:stCondLst>
                            <p:childTnLst>
                              <p:par>
                                <p:cTn id="1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9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4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9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4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9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8400"/>
                            </p:stCondLst>
                            <p:childTnLst>
                              <p:par>
                                <p:cTn id="236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300"/>
                            </p:stCondLst>
                            <p:childTnLst>
                              <p:par>
                                <p:cTn id="244" nodeType="afterEffect" fill="hold" presetClass="entr" presetID="18" presetSubtype="1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7800"/>
                            </p:stCondLst>
                            <p:childTnLst>
                              <p:par>
                                <p:cTn id="24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93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НАШ ВОПРОС: </a:t>
            </a:r>
            <a:r>
              <a:rPr b="1" i="1" lang="ru-RU" sz="4000" spc="-1" strike="noStrike">
                <a:solidFill>
                  <a:srgbClr val="eaeaea"/>
                </a:solidFill>
                <a:latin typeface="Tahoma"/>
              </a:rPr>
              <a:t>А вы знаете 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928960" cy="43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мое маленькое натуральное числ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и самое большое натура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число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0" descr="j0299125"/>
          <p:cNvPicPr/>
          <p:nvPr/>
        </p:nvPicPr>
        <p:blipFill>
          <a:blip r:embed="rId1"/>
          <a:stretch/>
        </p:blipFill>
        <p:spPr>
          <a:xfrm>
            <a:off x="4643280" y="206064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135" name="WordArt 21"/>
          <p:cNvSpPr txBox="1"/>
          <p:nvPr/>
        </p:nvSpPr>
        <p:spPr>
          <a:xfrm>
            <a:off x="7380360" y="2421000"/>
            <a:ext cx="576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Picture 23" descr="j0286034"/>
          <p:cNvPicPr/>
          <p:nvPr/>
        </p:nvPicPr>
        <p:blipFill>
          <a:blip r:embed="rId4"/>
          <a:stretch/>
        </p:blipFill>
        <p:spPr>
          <a:xfrm>
            <a:off x="3851280" y="4941720"/>
            <a:ext cx="919080" cy="885960"/>
          </a:xfrm>
          <a:prstGeom prst="rect">
            <a:avLst/>
          </a:prstGeom>
          <a:ln w="0">
            <a:noFill/>
          </a:ln>
        </p:spPr>
      </p:pic>
      <p:sp>
        <p:nvSpPr>
          <p:cNvPr id="137" name="WordArt 25"/>
          <p:cNvSpPr txBox="1"/>
          <p:nvPr/>
        </p:nvSpPr>
        <p:spPr>
          <a:xfrm>
            <a:off x="5508720" y="4941720"/>
            <a:ext cx="316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го найти нельзя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2000">
    <p:strips dir="rd"/>
    <p:sndAc>
      <p:stSnd>
        <p:snd r:embed="rId7" name="laser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500"/>
                            </p:stCondLst>
                            <p:childTnLst>
                              <p:par>
                                <p:cTn id="2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6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500"/>
                            </p:stCondLst>
                            <p:childTnLst>
                              <p:par>
                                <p:cTn id="28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3"/>
          <p:cNvSpPr/>
          <p:nvPr/>
        </p:nvSpPr>
        <p:spPr>
          <a:xfrm>
            <a:off x="684360" y="0"/>
            <a:ext cx="3527280" cy="2590920"/>
          </a:xfrm>
          <a:prstGeom prst="cloudCallout">
            <a:avLst>
              <a:gd name="adj1" fmla="val 8819"/>
              <a:gd name="adj2" fmla="val 116726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39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00"/>
                </a:solidFill>
                <a:latin typeface="Verdana"/>
              </a:rPr>
              <a:t>75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00720" y="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88960" y="83664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Verdana"/>
              </a:rPr>
              <a:t>Двузначные числ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8360" y="1916280"/>
            <a:ext cx="4032360" cy="2590560"/>
          </a:xfrm>
          <a:prstGeom prst="cloudCallout">
            <a:avLst>
              <a:gd name="adj1" fmla="val 10157"/>
              <a:gd name="adj2" fmla="val 39337"/>
            </a:avLst>
          </a:prstGeom>
          <a:solidFill>
            <a:srgbClr val="fecfc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Verdana"/>
              </a:rPr>
              <a:t>148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Verdana"/>
              </a:rPr>
              <a:t>491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ff"/>
                </a:solidFill>
                <a:latin typeface="Verdana"/>
              </a:rPr>
              <a:t>937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500720" y="213372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097240" y="292428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Verdana"/>
              </a:rPr>
              <a:t>Трехзначные числ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AutoShape 9"/>
          <p:cNvSpPr/>
          <p:nvPr/>
        </p:nvSpPr>
        <p:spPr>
          <a:xfrm>
            <a:off x="539640" y="4365720"/>
            <a:ext cx="4321440" cy="2303280"/>
          </a:xfrm>
          <a:prstGeom prst="cloudCallout">
            <a:avLst>
              <a:gd name="adj1" fmla="val 3638"/>
              <a:gd name="adj2" fmla="val -4248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1234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5392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Verdana"/>
              </a:rPr>
              <a:t>861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4500720" y="4292640"/>
            <a:ext cx="288720" cy="2158920"/>
          </a:xfrm>
          <a:custGeom>
            <a:avLst/>
            <a:gdLst>
              <a:gd name="textAreaLeft" fmla="*/ 0 w 288720"/>
              <a:gd name="textAreaRight" fmla="*/ 104040 w 28872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056920" y="4941720"/>
            <a:ext cx="34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Verdana"/>
              </a:rPr>
              <a:t>Четырехзначные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9900"/>
                </a:solidFill>
                <a:latin typeface="Verdana"/>
              </a:rPr>
              <a:t>числа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500"/>
                            </p:stCondLst>
                            <p:childTnLst>
                              <p:par>
                                <p:cTn id="3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5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67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7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700"/>
                            </p:stCondLst>
                            <p:childTnLst>
                              <p:par>
                                <p:cTn id="337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C:\Documents and Settings\Ноутбукофф\Мои документы\Мои рисунки\School project\Город\Горо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9280" y="5084640"/>
            <a:ext cx="8604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В любимом нашем городе порядочек во вс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Задачами, примерами наполнен каждый д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А если вы по улице решили вдруг пройтис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66"/>
                </a:solidFill>
                <a:latin typeface="Tahoma"/>
              </a:rPr>
              <a:t>То картами и планами вам тут не обойтись!</a:t>
            </a:r>
            <a:r>
              <a:rPr b="0" i="1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1" descr="C:\Documents and Settings\Ноутбукофф\Мои документы\Мои рисунки\School project\Город\Город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9"/>
          <p:cNvGrpSpPr/>
          <p:nvPr/>
        </p:nvGrpSpPr>
        <p:grpSpPr>
          <a:xfrm>
            <a:off x="4067280" y="3429000"/>
            <a:ext cx="3744720" cy="1944720"/>
            <a:chOff x="4067280" y="3429000"/>
            <a:chExt cx="3744720" cy="1944720"/>
          </a:xfrm>
        </p:grpSpPr>
        <p:sp>
          <p:nvSpPr>
            <p:cNvPr id="153" name="AutoShape 10"/>
            <p:cNvSpPr/>
            <p:nvPr/>
          </p:nvSpPr>
          <p:spPr>
            <a:xfrm>
              <a:off x="4067280" y="3429000"/>
              <a:ext cx="3744720" cy="1944720"/>
            </a:xfrm>
            <a:prstGeom prst="pie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4bacc6"/>
                </a:gs>
                <a:gs pos="100000">
                  <a:srgbClr val="92cddc"/>
                </a:gs>
              </a:gsLst>
              <a:lin ang="5400000"/>
            </a:gra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4" name="Text Box 11"/>
            <p:cNvSpPr/>
            <p:nvPr/>
          </p:nvSpPr>
          <p:spPr>
            <a:xfrm>
              <a:off x="5743080" y="3562200"/>
              <a:ext cx="346320" cy="125388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4bacc6"/>
                </a:gs>
                <a:gs pos="100000">
                  <a:srgbClr val="92cddc"/>
                </a:gs>
              </a:gsLst>
              <a:lin ang="5400000"/>
            </a:gra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 Black"/>
                </a:rPr>
                <a:t>Деления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5" name="Text Box 12"/>
            <p:cNvSpPr/>
            <p:nvPr/>
          </p:nvSpPr>
          <p:spPr>
            <a:xfrm>
              <a:off x="4502520" y="4595760"/>
              <a:ext cx="1319040" cy="2826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4bacc6"/>
                </a:gs>
                <a:gs pos="100000">
                  <a:srgbClr val="92cddc"/>
                </a:gs>
              </a:gsLst>
              <a:lin ang="5400000"/>
            </a:gra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 Black"/>
                </a:rPr>
                <a:t>Умножения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  <p:sp>
          <p:nvSpPr>
            <p:cNvPr id="156" name="Text Box 13"/>
            <p:cNvSpPr/>
            <p:nvPr/>
          </p:nvSpPr>
          <p:spPr>
            <a:xfrm>
              <a:off x="6089760" y="4595760"/>
              <a:ext cx="1458360" cy="282600"/>
            </a:xfrm>
            <a:prstGeom prst="rect">
              <a:avLst/>
            </a:prstGeom>
            <a:gradFill rotWithShape="0">
              <a:gsLst>
                <a:gs pos="0">
                  <a:srgbClr val="92cddc"/>
                </a:gs>
                <a:gs pos="50000">
                  <a:srgbClr val="4bacc6"/>
                </a:gs>
                <a:gs pos="100000">
                  <a:srgbClr val="92cddc"/>
                </a:gs>
              </a:gsLst>
              <a:lin ang="5400000"/>
            </a:gradFill>
            <a:ln w="12600">
              <a:solidFill>
                <a:srgbClr val="4bacc6"/>
              </a:solidFill>
              <a:miter/>
            </a:ln>
            <a:effectLst>
              <a:outerShdw dist="17819" dir="2700000" blurRad="0" rotWithShape="0">
                <a:srgbClr val="2058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Arial Black"/>
                </a:rPr>
                <a:t>Сложения</a:t>
              </a:r>
              <a:endParaRPr b="0" lang="en-US" sz="1200" spc="-1" strike="noStrike">
                <a:solidFill>
                  <a:srgbClr val="ffffff"/>
                </a:solidFill>
                <a:latin typeface="Arial Black"/>
              </a:endParaRPr>
            </a:p>
          </p:txBody>
        </p:sp>
      </p:grpSp>
      <p:sp>
        <p:nvSpPr>
          <p:cNvPr id="157" name="Rectangle 3"/>
          <p:cNvSpPr/>
          <p:nvPr/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0cc9"/>
                </a:solidFill>
                <a:latin typeface="Tahoma"/>
              </a:rPr>
              <a:t>Лишь тот, кто знает свойства ВСЕ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0cc9"/>
                </a:solidFill>
                <a:latin typeface="Tahoma"/>
              </a:rPr>
              <a:t>Дорогу здесь найдет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0cc9"/>
                </a:solidFill>
                <a:latin typeface="Tahoma"/>
              </a:rPr>
              <a:t>На улицах Сложения,</a:t>
            </a:r>
            <a:r>
              <a:rPr b="0" i="1" lang="en-US" sz="2400" spc="-1" strike="noStrike">
                <a:solidFill>
                  <a:srgbClr val="d20cc9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d20cc9"/>
                </a:solidFill>
                <a:latin typeface="Tahoma"/>
              </a:rPr>
              <a:t>Деленья, Умножения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20cc9"/>
                </a:solidFill>
                <a:latin typeface="Tahoma"/>
              </a:rPr>
              <a:t>Он не пропадет!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0" y="508464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5445000"/>
            <a:ext cx="9144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 Black"/>
              </a:rPr>
              <a:t>Какие же свойства вам пригодятся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Давайте повторим свойства натуральных чисел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0" y="184464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местительное свойство сложения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четательное свойство сложения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)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)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местительное свойство умножения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а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очетательное свойство умножения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)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войство вычитания суммы из числа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)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войство вычитания числа из суммы: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)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−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ительное свойство умножения относительно сложения: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)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•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ительное свойство деления относительно сложения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)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=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+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 : 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1" name="laser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4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0"/>
                            </p:stCondLst>
                            <p:childTnLst>
                              <p:par>
                                <p:cTn id="4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4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5000"/>
                            </p:stCondLst>
                            <p:childTnLst>
                              <p:par>
                                <p:cTn id="4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0"/>
                            </p:stCondLst>
                            <p:childTnLst>
                              <p:par>
                                <p:cTn id="4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1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1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4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0" fill="hold"/>
                                        <p:tgtEl>
                                          <p:spTgt spid="1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0" fill="hold"/>
                                        <p:tgtEl>
                                          <p:spTgt spid="1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Сиверко4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616720"/>
          </a:xfrm>
          <a:prstGeom prst="rect">
            <a:avLst/>
          </a:prstGeom>
          <a:ln w="0">
            <a:noFill/>
          </a:ln>
        </p:spPr>
      </p:pic>
      <p:sp>
        <p:nvSpPr>
          <p:cNvPr id="163" name="WordArt 5"/>
          <p:cNvSpPr txBox="1"/>
          <p:nvPr/>
        </p:nvSpPr>
        <p:spPr>
          <a:xfrm>
            <a:off x="7667640" y="3357720"/>
            <a:ext cx="28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WordArt 6"/>
          <p:cNvSpPr txBox="1"/>
          <p:nvPr/>
        </p:nvSpPr>
        <p:spPr>
          <a:xfrm>
            <a:off x="2916360" y="4292640"/>
            <a:ext cx="86508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7"/>
          <p:cNvSpPr txBox="1"/>
          <p:nvPr/>
        </p:nvSpPr>
        <p:spPr>
          <a:xfrm>
            <a:off x="1908000" y="4365720"/>
            <a:ext cx="432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4284720" y="3068640"/>
            <a:ext cx="86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WordArt 9"/>
          <p:cNvSpPr txBox="1"/>
          <p:nvPr/>
        </p:nvSpPr>
        <p:spPr>
          <a:xfrm>
            <a:off x="8317080" y="4149720"/>
            <a:ext cx="50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6012000" y="429264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11"/>
          <p:cNvSpPr txBox="1"/>
          <p:nvPr/>
        </p:nvSpPr>
        <p:spPr>
          <a:xfrm>
            <a:off x="6443640" y="3068640"/>
            <a:ext cx="792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WordArt 12"/>
          <p:cNvSpPr txBox="1"/>
          <p:nvPr/>
        </p:nvSpPr>
        <p:spPr>
          <a:xfrm>
            <a:off x="250920" y="2708280"/>
            <a:ext cx="684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3"/>
          <p:cNvSpPr txBox="1"/>
          <p:nvPr/>
        </p:nvSpPr>
        <p:spPr>
          <a:xfrm>
            <a:off x="1476360" y="1700280"/>
            <a:ext cx="165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1258920" y="-457200"/>
            <a:ext cx="71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0" y="645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СОСТАВЬТЕ ИЗ ЭТИХ ЦИФР НАИБОЛЬШЕЕ ИЗ ВОЗМОЖНЫХ ЧИСЕЛ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4716360" y="10368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98765432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НА ПЛОЩАДИ ТАНЦЕВ ВЕСЕЛЬЕ И СМЕХ,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0066"/>
                </a:solidFill>
                <a:latin typeface="Arial Black"/>
              </a:rPr>
              <a:t>РЕШИТЕ ЗАДАЧУ – МЫ ВЕРИМ В УСПЕХ!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slow" advTm="12000">
    <p:strips dir="rd"/>
    <p:sndAc>
      <p:stSnd>
        <p:snd r:embed="rId2" name="laser.wav"/>
      </p:stSnd>
    </p:sndAc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0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3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472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73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74" dur="1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83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84" dur="1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493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494" dur="1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50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2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04" dur="1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13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2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24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53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33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34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43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44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2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55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55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58:38Z</dcterms:created>
  <dc:creator>Parent</dc:creator>
  <dc:description/>
  <dc:language>en-US</dc:language>
  <cp:lastModifiedBy>Admin</cp:lastModifiedBy>
  <dcterms:modified xsi:type="dcterms:W3CDTF">2010-01-11T17:45:51Z</dcterms:modified>
  <cp:revision>82</cp:revision>
  <dc:subject/>
  <dc:title>Слайд 1</dc:title>
</cp:coreProperties>
</file>